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98D-5504-4C08-BE58-A3353D8B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6A6-3779-49F6-A021-422916A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FE0-E6E2-4C5B-8F8E-311F54B4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33B-9886-4519-855E-25A6EBE5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950-293B-4F14-A340-649A3D9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FBD-3B76-4A35-B843-85F2747A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86A-F1D6-4C1B-B60A-0B085A6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D1E-2DFC-43CF-B5D7-CE5FB56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8E9-49FF-4304-B3B4-81366AA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A48-8080-473A-A9B3-E9041E1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57D-47A8-4451-ADA7-2A60384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44C-7159-43E5-AA39-062D3C28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B34-A49A-4B89-B18F-49ADBE5A069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1040" y="714240"/>
          <a:ext cx="6215040" cy="417528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소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1104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가님 소개를 자유롭게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5"/>
          <p:cNvSpPr/>
          <p:nvPr/>
        </p:nvSpPr>
        <p:spPr>
          <a:xfrm>
            <a:off x="2214720" y="214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모작품 기획안</a:t>
            </a: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1040" y="5000760"/>
          <a:ext cx="6215040" cy="383220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장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컨셉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제작의도 및 타겟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877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제안 작품의 장르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컨셉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와 제작하고자 하는 의도 그리고 어느 독자층을 겨냥 한 작품인지 자유롭게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 스토리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시즌별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회차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의 스토리는 크게는 시즌별로 큰 스토리를 요약해 작성해주시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 큰 스토리속에 들어갈 회차별 스토리를 글 콘티 수준 혹은 소설 형태로 작성해주시면 됩니다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ex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시즌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 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큰 줄거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시즌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 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큰 줄거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화 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&gt;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스토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57120" y="428760"/>
          <a:ext cx="6215040" cy="8200800"/>
        </p:xfrm>
        <a:graphic>
          <a:graphicData uri="http://schemas.openxmlformats.org/drawingml/2006/table">
            <a:tbl>
              <a:tblPr/>
              <a:tblGrid>
                <a:gridCol w="2071800"/>
                <a:gridCol w="1357200"/>
                <a:gridCol w="2786040"/>
              </a:tblGrid>
              <a:tr h="2444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캐릭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그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이름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/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성격 및 구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성격 및 구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작품의 설정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주요 배경 및 시대관 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에 핵심이 될 배경이나 시대배경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..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그에 따른 의상의 형태등 작품 방향을 파악하는데 꼭 필요한 주요 설정에 대해 작성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57120" y="428760"/>
          <a:ext cx="6215040" cy="808344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■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원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명조"/>
                          <a:ea typeface="나눔명조"/>
                        </a:rPr>
                        <a:t>샘플 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3900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작품의 샘플 컷 및 주요장면의 이미지를 넣어주세요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!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추가로 첨부해야하는 샘플 원고와는 별도입니다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01:24:01Z</dcterms:created>
  <dc:creator>qqqq</dc:creator>
  <dc:description/>
  <dc:language>en-US</dc:language>
  <cp:lastModifiedBy>USER</cp:lastModifiedBy>
  <dcterms:modified xsi:type="dcterms:W3CDTF">2021-11-15T03:46:46Z</dcterms:modified>
  <cp:revision>9</cp:revision>
  <dc:subject/>
  <dc:title>슬라이드 1</dc:title>
</cp:coreProperties>
</file>